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14E-9DDB-424D-AAA9-EDDE258C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2DA-D67B-4AF7-AA44-509C066A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DA4-2A3A-48F5-9171-345D5F85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824-4CEC-465F-BC1D-35218EC1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633-7E5B-4183-A954-3520FC5C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FD8-3DBC-49A3-8FFA-8EBD9C36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229-1AD9-4EB3-9302-73337A90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45B-1444-42BA-95B8-BBB5B0E7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6F5-3084-4FB2-A294-14A03ECF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EBD-8968-452C-AD6C-D62EE62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0DA-BDEB-49F6-BA2E-1C71B89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517-83D7-4C62-8B81-7950ACC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5ED-B10F-4D56-AD34-1EDDBB947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17960" y="4343400"/>
            <a:ext cx="901440" cy="287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920" y="868320"/>
            <a:ext cx="829296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1187280"/>
            <a:ext cx="177948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851120"/>
            <a:ext cx="1542960" cy="46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ident (C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3" idx="2"/>
            <a:endCxn id="44" idx="0"/>
          </p:cNvCxnSpPr>
          <p:nvPr/>
        </p:nvCxnSpPr>
        <p:spPr>
          <a:xfrm>
            <a:off x="4504320" y="1581120"/>
            <a:ext cx="1440" cy="270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4" idx="2"/>
            <a:endCxn id="47" idx="0"/>
          </p:cNvCxnSpPr>
          <p:nvPr/>
        </p:nvCxnSpPr>
        <p:spPr>
          <a:xfrm flipH="1">
            <a:off x="4502160" y="2317680"/>
            <a:ext cx="3600" cy="930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4" idx="2"/>
            <a:endCxn id="49" idx="0"/>
          </p:cNvCxnSpPr>
          <p:nvPr/>
        </p:nvCxnSpPr>
        <p:spPr>
          <a:xfrm rot="5400000">
            <a:off x="2755800" y="1500480"/>
            <a:ext cx="932400" cy="2566800"/>
          </a:xfrm>
          <a:prstGeom prst="bentConnector3">
            <a:avLst>
              <a:gd name="adj1" fmla="val 5071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4" idx="2"/>
            <a:endCxn id="51" idx="0"/>
          </p:cNvCxnSpPr>
          <p:nvPr/>
        </p:nvCxnSpPr>
        <p:spPr>
          <a:xfrm flipH="1" rot="16200000">
            <a:off x="5327280" y="1495800"/>
            <a:ext cx="930600" cy="2574360"/>
          </a:xfrm>
          <a:prstGeom prst="bentConnector3">
            <a:avLst>
              <a:gd name="adj1" fmla="val 5069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2309760" y="2374920"/>
            <a:ext cx="95400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3"/>
            <a:endCxn id="44" idx="2"/>
          </p:cNvCxnSpPr>
          <p:nvPr/>
        </p:nvCxnSpPr>
        <p:spPr>
          <a:xfrm flipV="1">
            <a:off x="3263760" y="2317680"/>
            <a:ext cx="1242000" cy="2138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9" name=""/>
          <p:cNvSpPr/>
          <p:nvPr/>
        </p:nvSpPr>
        <p:spPr>
          <a:xfrm>
            <a:off x="736560" y="3249720"/>
            <a:ext cx="240516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4880" y="3336840"/>
            <a:ext cx="192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: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2400" y="3247920"/>
            <a:ext cx="2279520" cy="44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e-President: F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hief Financial Offic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77000" y="3247920"/>
            <a:ext cx="2405160" cy="45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8160" y="3336840"/>
            <a:ext cx="237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e-President: Manufact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9320" y="4344840"/>
            <a:ext cx="1008000" cy="29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asu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2720" y="4324320"/>
            <a:ext cx="1108080" cy="30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2"/>
            <a:endCxn id="56" idx="0"/>
          </p:cNvCxnSpPr>
          <p:nvPr/>
        </p:nvCxnSpPr>
        <p:spPr>
          <a:xfrm rot="5400000">
            <a:off x="3687120" y="3530160"/>
            <a:ext cx="651240" cy="979200"/>
          </a:xfrm>
          <a:prstGeom prst="bentConnector3">
            <a:avLst>
              <a:gd name="adj1" fmla="val 5094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7" idx="2"/>
            <a:endCxn id="57" idx="0"/>
          </p:cNvCxnSpPr>
          <p:nvPr/>
        </p:nvCxnSpPr>
        <p:spPr>
          <a:xfrm flipH="1" rot="16200000">
            <a:off x="4724280" y="3471480"/>
            <a:ext cx="630720" cy="1074960"/>
          </a:xfrm>
          <a:prstGeom prst="bentConnector3">
            <a:avLst>
              <a:gd name="adj1" fmla="val 5099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5024520" y="5324400"/>
            <a:ext cx="2484360" cy="8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 Accoun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cial 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x department and accou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5324400"/>
            <a:ext cx="2506320" cy="84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able securit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 structu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manage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manage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 budge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0"/>
            <a:endCxn id="56" idx="2"/>
          </p:cNvCxnSpPr>
          <p:nvPr/>
        </p:nvCxnSpPr>
        <p:spPr>
          <a:xfrm flipV="1">
            <a:off x="2774160" y="4641840"/>
            <a:ext cx="749520" cy="682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60" idx="0"/>
            <a:endCxn id="57" idx="2"/>
          </p:cNvCxnSpPr>
          <p:nvPr/>
        </p:nvCxnSpPr>
        <p:spPr>
          <a:xfrm flipH="1" flipV="1">
            <a:off x="5576760" y="4627440"/>
            <a:ext cx="690120" cy="697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133640" y="804960"/>
            <a:ext cx="6918120" cy="5705280"/>
            <a:chOff x="1133640" y="804960"/>
            <a:chExt cx="6918120" cy="5705280"/>
          </a:xfrm>
        </p:grpSpPr>
        <p:sp>
          <p:nvSpPr>
            <p:cNvPr id="65" name=""/>
            <p:cNvSpPr/>
            <p:nvPr/>
          </p:nvSpPr>
          <p:spPr>
            <a:xfrm>
              <a:off x="1133640" y="804960"/>
              <a:ext cx="6918120" cy="570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2747880"/>
              <a:ext cx="1522440" cy="1327320"/>
            </a:xfrm>
            <a:prstGeom prst="pentag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2720" y="3271680"/>
              <a:ext cx="14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55920" y="388620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4137120"/>
              <a:ext cx="1254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6600" y="4397400"/>
              <a:ext cx="0" cy="88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692240" y="4433760"/>
              <a:ext cx="3240" cy="8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67080" y="4875120"/>
              <a:ext cx="92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mate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94200" y="5019840"/>
              <a:ext cx="9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41840" y="3665520"/>
              <a:ext cx="827280" cy="2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5457960" y="3855960"/>
              <a:ext cx="83952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45200" y="4135320"/>
              <a:ext cx="12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ty Cap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80080" y="3316320"/>
              <a:ext cx="137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vidends and capital g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790720" y="3654360"/>
              <a:ext cx="83196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836440" y="3870360"/>
              <a:ext cx="80172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38520" y="42148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s and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5680" y="35164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14680" y="1973160"/>
              <a:ext cx="584280" cy="67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3335040" y="2076480"/>
              <a:ext cx="56340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49680" y="1898640"/>
              <a:ext cx="117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an capi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51240" y="2157480"/>
              <a:ext cx="83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087880" y="1936440"/>
              <a:ext cx="557280" cy="6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235480" y="2100240"/>
              <a:ext cx="573120" cy="69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56160" y="1874880"/>
              <a:ext cx="92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6600" y="231156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55760" y="119556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74920" y="1461960"/>
              <a:ext cx="98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1187280"/>
              <a:ext cx="122904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07080" y="1454040"/>
              <a:ext cx="9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24560" y="388476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12040" y="41511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68640" y="5416560"/>
              <a:ext cx="122868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0440" y="5683320"/>
              <a:ext cx="122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71520" y="1174680"/>
            <a:ext cx="5743800" cy="2824200"/>
            <a:chOff x="1271520" y="1174680"/>
            <a:chExt cx="5743800" cy="2824200"/>
          </a:xfrm>
        </p:grpSpPr>
        <p:sp>
          <p:nvSpPr>
            <p:cNvPr id="99" name=""/>
            <p:cNvSpPr/>
            <p:nvPr/>
          </p:nvSpPr>
          <p:spPr>
            <a:xfrm>
              <a:off x="1271520" y="1174680"/>
              <a:ext cx="5743800" cy="282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19280" y="1371600"/>
              <a:ext cx="3009960" cy="228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66760" y="2971800"/>
              <a:ext cx="211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5760" y="2286000"/>
              <a:ext cx="11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8680" y="3125880"/>
              <a:ext cx="220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Production and Distribution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38680" y="2454120"/>
              <a:ext cx="197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grammed Monitoring and Decision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38680" y="1771560"/>
              <a:ext cx="1596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n Programmed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4160" y="19051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4160" y="25909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4160" y="32767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2720" y="1673280"/>
            <a:ext cx="8293320" cy="312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66960" y="1884240"/>
            <a:ext cx="2279520" cy="6001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76680" y="1879560"/>
            <a:ext cx="2279520" cy="6001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88200" y="1879560"/>
            <a:ext cx="2279520" cy="600120"/>
          </a:xfrm>
          <a:custGeom>
            <a:avLst/>
            <a:gdLst>
              <a:gd name="textAreaLeft" fmla="*/ 0 w 2279520"/>
              <a:gd name="textAreaRight" fmla="*/ 2279880 w 22795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9840" y="193824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79920" y="1940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91440" y="1940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6960" y="2752560"/>
            <a:ext cx="19382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the problem/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0200" y="2752560"/>
            <a:ext cx="19386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uncertain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ch for in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recomme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4960" y="2752560"/>
            <a:ext cx="1938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71520" y="1174680"/>
            <a:ext cx="6308640" cy="28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1371600"/>
            <a:ext cx="3009960" cy="228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971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25760" y="2286000"/>
            <a:ext cx="118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8680" y="3125880"/>
            <a:ext cx="26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s that will be addressed during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8680" y="2454120"/>
            <a:ext cx="26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s that require focus now to solve the current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8680" y="177156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s that have been made and cannot be rever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24160" y="19051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4160" y="2590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c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765440"/>
            <a:ext cx="324000" cy="447480"/>
          </a:xfrm>
          <a:prstGeom prst="rightArrow">
            <a:avLst>
              <a:gd name="adj1" fmla="val 45389"/>
              <a:gd name="adj2" fmla="val 59806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457360"/>
            <a:ext cx="324000" cy="447840"/>
          </a:xfrm>
          <a:prstGeom prst="rightArrow">
            <a:avLst>
              <a:gd name="adj1" fmla="val 45389"/>
              <a:gd name="adj2" fmla="val 59806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124080"/>
            <a:ext cx="324000" cy="447840"/>
          </a:xfrm>
          <a:prstGeom prst="rightArrow">
            <a:avLst>
              <a:gd name="adj1" fmla="val 45389"/>
              <a:gd name="adj2" fmla="val 59806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79320" y="1106640"/>
            <a:ext cx="7931160" cy="3247920"/>
            <a:chOff x="679320" y="1106640"/>
            <a:chExt cx="7931160" cy="3247920"/>
          </a:xfrm>
        </p:grpSpPr>
        <p:sp>
          <p:nvSpPr>
            <p:cNvPr id="133" name=""/>
            <p:cNvSpPr/>
            <p:nvPr/>
          </p:nvSpPr>
          <p:spPr>
            <a:xfrm>
              <a:off x="679320" y="1106640"/>
              <a:ext cx="7931160" cy="32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33640" y="1644480"/>
              <a:ext cx="2436480" cy="2013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495440" y="3053880"/>
              <a:ext cx="171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6960" y="2449440"/>
              <a:ext cx="97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9560" y="21193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9560" y="27338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9560" y="3348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60680" y="2462040"/>
              <a:ext cx="10810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10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lo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indent="-95400">
                <a:lnSpc>
                  <a:spcPct val="10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400" indent="-95400">
                <a:lnSpc>
                  <a:spcPct val="100000"/>
                </a:lnSpc>
                <a:spcBef>
                  <a:spcPts val="62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32440" y="1679400"/>
              <a:ext cx="3179520" cy="195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7600" y="167328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9560" y="167328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1673280"/>
              <a:ext cx="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2440" y="2109960"/>
              <a:ext cx="317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9760" y="1793880"/>
              <a:ext cx="81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plo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9720" y="1793880"/>
              <a:ext cx="169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50920" y="1722600"/>
              <a:ext cx="67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ra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9520" y="1716120"/>
              <a:ext cx="98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ic Them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7600" y="2424240"/>
              <a:ext cx="847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pha Fi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50200" y="2424240"/>
              <a:ext cx="84744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94400" y="2424240"/>
              <a:ext cx="8478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pe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265572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c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70440" y="2660760"/>
              <a:ext cx="750960" cy="20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93040" y="2430360"/>
              <a:ext cx="750600" cy="20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3200" y="3125880"/>
              <a:ext cx="750960" cy="20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35000" y="3808440"/>
              <a:ext cx="26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Hierarc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00640" y="3794040"/>
              <a:ext cx="263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y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2521080"/>
              <a:ext cx="323640" cy="447480"/>
            </a:xfrm>
            <a:prstGeom prst="rightArrow">
              <a:avLst>
                <a:gd name="adj1" fmla="val 45389"/>
                <a:gd name="adj2" fmla="val 59806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14760" y="2521080"/>
              <a:ext cx="324000" cy="447480"/>
            </a:xfrm>
            <a:prstGeom prst="rightArrow">
              <a:avLst>
                <a:gd name="adj1" fmla="val 45389"/>
                <a:gd name="adj2" fmla="val 59806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78000" y="324000"/>
            <a:ext cx="6565680" cy="264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0960" y="1490760"/>
            <a:ext cx="8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1611360"/>
            <a:ext cx="12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-Fea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68840" y="1725480"/>
            <a:ext cx="126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839960"/>
            <a:ext cx="17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tailed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66920" y="249084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2268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87480" y="2446200"/>
            <a:ext cx="27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2333520"/>
            <a:ext cx="30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73560" y="808200"/>
            <a:ext cx="2880" cy="2155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4440" y="808200"/>
            <a:ext cx="0" cy="216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89600" y="808200"/>
            <a:ext cx="0" cy="2166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314080" y="331920"/>
            <a:ext cx="1800" cy="26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96960" y="1717560"/>
            <a:ext cx="881280" cy="71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79680" y="1836720"/>
            <a:ext cx="1274760" cy="71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7680" y="1955880"/>
            <a:ext cx="1230480" cy="71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9600" y="2076480"/>
            <a:ext cx="1797120" cy="71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71520" y="906480"/>
            <a:ext cx="108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0240" y="925560"/>
            <a:ext cx="9525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7000" y="906480"/>
            <a:ext cx="96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portunity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33680" y="925560"/>
            <a:ext cx="11667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4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08440" y="925560"/>
            <a:ext cx="112716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92556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925560"/>
            <a:ext cx="1779480" cy="398520"/>
          </a:xfrm>
          <a:prstGeom prst="roundRect">
            <a:avLst>
              <a:gd name="adj" fmla="val 27093"/>
            </a:avLst>
          </a:prstGeom>
          <a:gradFill rotWithShape="0">
            <a:gsLst>
              <a:gs pos="0">
                <a:srgbClr val="ccecff"/>
              </a:gs>
              <a:gs pos="100000">
                <a:srgbClr val="9ab2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24760" y="925560"/>
            <a:ext cx="121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Business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1520" y="1457280"/>
            <a:ext cx="658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1520" y="2281320"/>
            <a:ext cx="656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71520" y="808200"/>
            <a:ext cx="657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70120" y="401760"/>
            <a:ext cx="21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71520" y="40176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3696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02120" y="24462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2333520"/>
            <a:ext cx="3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628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21440" y="24462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07200" y="2333520"/>
            <a:ext cx="3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83400" y="2378160"/>
            <a:ext cx="136440" cy="136440"/>
          </a:xfrm>
          <a:prstGeom prst="diamond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8560" y="24462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33520"/>
            <a:ext cx="307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9640" y="2595600"/>
            <a:ext cx="1207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22800" y="2602080"/>
            <a:ext cx="1366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9640" y="2629080"/>
            <a:ext cx="13525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next phas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8440" y="2635200"/>
            <a:ext cx="1927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implementation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1520" y="1495440"/>
            <a:ext cx="10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ing Stu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8:55Z</dcterms:created>
  <dc:creator>frank crundwell</dc:creator>
  <dc:description/>
  <dc:language>en-US</dc:language>
  <cp:lastModifiedBy>frank crundwell</cp:lastModifiedBy>
  <dcterms:modified xsi:type="dcterms:W3CDTF">2007-08-16T16:33:41Z</dcterms:modified>
  <cp:revision>25</cp:revision>
  <dc:subject/>
  <dc:title>PowerPoint Presentation</dc:title>
</cp:coreProperties>
</file>